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67142-CC54-44F9-BEC1-931E3E3D8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F0C08-12A0-4F17-8473-2637A568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EF57E-6B00-4BD7-9FCC-5642248CB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ACA63-17D0-42B5-AA1F-D5B378CC7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7D28-3549-456D-BF03-43B434ABA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2BDB-E083-4A9E-8DAE-F597C09D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5E7F-9D62-4971-AB1E-E2020E40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6A5C-1A64-442A-A3BB-71506DE4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5486-1B69-4077-9B28-95CBA2D0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7986-3AA1-4FFB-9A9C-462C5BB2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3F74-EA3D-42B3-A625-AC4A0496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15DE6-C690-4139-90F0-4F5E7757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CD93-283A-4205-846F-03EB057B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624D-67BC-4089-A99D-5CB4E9B8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15D1-25F7-4810-8D58-79C4DD74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F35D-A4A0-4D03-B63D-E543C9922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1C06-0148-4A2F-B601-EC6B5A8E1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A05BF-C40F-4610-BFE1-22DAF0B6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5C1C4-07DA-4193-8ADF-B9D5F138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3167B-2C58-48FA-B49B-776C88AE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6BCE3-7F27-456E-B467-9077CA5C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4E56D-551C-4AC9-A68F-04202903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C53AE-A794-4EE0-8FF8-5122BACB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571DD-C4C3-4F2F-860A-A7B50A6D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3319-DE58-49B4-BDE6-AA43CFA7D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36F3-D38A-42FC-AAC2-3608090F9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479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47900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26920" y="126792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onomic Effectiveness of RES-E projects – examples of sample calc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403280" y="2997000"/>
            <a:ext cx="684072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rosla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Kn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zech Technical University in Prague (C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U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A6C4-952D-4159-AD9E-C23E2F2B89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523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 Pres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23640" y="990720"/>
            <a:ext cx="857700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F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fference between money inflow and outflow in given y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minal discount – time value of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ž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 assessment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PV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≥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v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ernal rate of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yback period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56716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7386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4004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50992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3348000" y="1052640"/>
                <a:ext cx="295272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V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ž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2627280" y="4076640"/>
                <a:ext cx="316872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ž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ž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R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RR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3348000" y="5734080"/>
                <a:ext cx="17287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!</m:t>
                        </m:r>
                      </m:lim>
                    </m:limUpp>
                    <m:r>
                      <m:t xml:space="preserve"> 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48596-4B3F-47C3-BCC3-FC112B298C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um price of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7280" y="3573360"/>
            <a:ext cx="72835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V=0 means that production is sold for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ice and investor gains rate of return equal to discount rate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ark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.. Loss for inve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1332000" y="1125360"/>
                <a:ext cx="295272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V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ž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56716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7386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4004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50992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37176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19564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4716360" y="1197000"/>
                <a:ext cx="36007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ž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ž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1908000" y="2421000"/>
                <a:ext cx="56390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nf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020B0-219F-43FB-844C-A044067052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523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minal versus constant 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0"/>
          </a:bodyPr>
          <a:p>
            <a:pPr marL="6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vestors point of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uld respects real conditions of project realiz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320" indent="-5688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flation, cost growth – different cost items have different growth rat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320" indent="-5688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y of tax calculation and 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320" indent="-5688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equate value of depreciations as the tax sh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ant prices used for NPV and 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ms easier – no assumptions on cost and revenue growth are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320" indent="-5688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id tax is calculated from revenues and costs in given year (nominal valu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320" indent="-5688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means that zero growth is exp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320" indent="-5688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preciations as significant part of cost has higher importance than is adequate (creates tax shie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320" indent="-5688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 serve only as informative indi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56716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7386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4004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50992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37176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19564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A78A7-6C3E-4660-9AD5-83F68BA323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um price of production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ersus levelise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Tž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uity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vestment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p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ration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olume of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 of capital (WAC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ely used for economic comparison of different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esn’t mean „price“ required by inve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ogy of constant prices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56716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7386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4004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50992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37176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19564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95748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1371600" y="1295280"/>
                <a:ext cx="2057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</m:t>
                        </m:r>
                        <m:r>
                          <m:t xml:space="preserve">φ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ž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sub>
                        </m:sSub>
                      </m:num>
                      <m:den>
                        <m:r>
                          <m:t xml:space="preserve">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0" name=""/>
          <p:cNvSpPr/>
          <p:nvPr/>
        </p:nvSpPr>
        <p:spPr>
          <a:xfrm>
            <a:off x="403848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5334120" y="1295280"/>
                <a:ext cx="198108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ž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ž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ž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9C26D-7561-4D90-AFDF-995F91895F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523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minal versus constant 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vestors point of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20" indent="-5472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uld respects real conditions of project realiz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8800" indent="-4572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flation, cost growth – different cost items have different growth rat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8800" indent="-4572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y of tax calculation and 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8800" indent="-4572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equate value of depreciations as the tax sh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ant prices used for NPV and 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20" indent="-5472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ms easier – no assumptions on cost and revenue growth are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20" indent="-5472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8800" indent="-4572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id tax is calculated from revenues and costs in given year (nominal valu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8800" indent="-4572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means that zero growth is exp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8800" indent="-4572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preciations as significant part of cost has higher importance than is adequate (creates tax shie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8800" indent="-4572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 serve only as informative indi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56716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7386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4004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50992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37176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19564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0EEB9-EEC5-4EB9-AE22-7A3F54F9CF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ning of dis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75708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e value of money – opportunity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ired rate of return by the inv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minal discount: risk free return, risk premium, inf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er risk means higher dis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ypes of ris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luctuation of weather condition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natural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siness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litical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7386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4004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50992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37176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1835280" y="2421000"/>
                <a:ext cx="45370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nf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978C2-DF4C-4D8A-B659-20618D6971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523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tting of dis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593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ount should reflect risk of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the risk of business in RES-E project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risk for all type of projects the sam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 for electricity generation versus heat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se example of the Czech Re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the risk in RES-E project ? Is it different from natural monopilst position, e.g. electricity distributio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% of discount used for feed-in tariff calculation, is it adequate valu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is the meaning of this 7%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7386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4004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50992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37176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18A0F-66A5-4744-AAAA-FE66FD2C40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ning of discount as WA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7859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wo ways how to calculate feed-in tarif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vestors point of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sume typical financing – share of bank loan, interest rate, repayment period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discount rate based on rate of return on equity ca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ut what is typical financing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int of view of total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ructure o financing is not solved (taken into accou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scount has meaning of WACC – weighted average cost of ca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.. equity (own capi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.. debt (external capi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.. cost of external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.. tax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.. return on own capita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7386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4004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50992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37176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2340000" y="3789360"/>
                <a:ext cx="48988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AC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sub>
                    </m:sSub>
                    <m:r>
                      <m:t xml:space="preserve">∗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E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</m:e>
                    </m:d>
                    <m:r>
                      <m:t xml:space="preserve">∗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E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3D531-DA08-4E87-929B-70740682D4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ning of discount as WACC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7570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rage effect – debt financing is increasing rate of return on equity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% of discount as WACC means typically more than 10% of return on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vantage of bigger companies with capital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o have return when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investment is financed by loa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7386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4004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50992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37176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80044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3924360" y="3094200"/>
          <a:ext cx="5040360" cy="33289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7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24360" y="3094200"/>
                    <a:ext cx="5040360" cy="33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EAE0A-808B-4009-8F54-891D472C89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523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ed inputs for analysis of economic effectiveness of RES-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5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eral inpu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fetime period (derived from physical lifetime of key part of technolo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 increase expec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enue increase expec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y of financing (equity, loans, subsidies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vestment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itial investment + investment during project lifetime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chnological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truction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lated investments (infrastructure, access r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id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commissioning cos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7386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4004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50992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337176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80044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69560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36042-3050-458E-A2E0-9FE6F5DC70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T OF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59644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conomic decision of investors (R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do investors decide to invest into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e of return as the main target of inve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model of a project as the basis of investment apprai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sh flow and NPV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pects (viewpoints) of economic apprai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lusion of non economic effects into “system”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ing of discount, proper setting of its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minal versus constant prices, differences betwee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e of input data for NPV calculation (RES proje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e of financing and its impact on rate of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ffectiveness of RES-E project – case calculatio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ypical technical and economic indicators of RES-E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ting proper assumptions for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different assumptions on minimum price of electr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A2FEC-B3B4-4AFD-AB89-39E2CDE5BA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523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ed inputs for analysis of economic effectiveness of RES-E projects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520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perating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el cost (e.g. biomass), sometimes can be negative (waste process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ther fuel and elec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pair and maintenance (ussualy can be expressed as % of invest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abour cost (in RES-E projects typically has low sh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er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ther financial cost (land rent, insurance, compensation to municipalities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xpenses related to the fin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est paytment and redemption of lo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asing 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tilization of instale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ey factor in RES-E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tilization of originating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7386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4004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50992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37176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80044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69560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0C903-16F7-4EF2-A58A-DA41582A3D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523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lected economic parameter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different RES-E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520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-E technologies: Big differences in investment, operational cost and utilization of installed capac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o projects using the same technology can differ in investment costs significa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mall hyd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vestment cost in th. EUR/k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al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,5-3% of investment (smaller has higher 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tilization of installe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mall and medium: 3000-4500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rge: 5000-6000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minal 30 years, real with increased maintenance co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5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7386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50992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37176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80044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69560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62908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91456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19572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91456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5"/>
          <a:stretch/>
        </p:blipFill>
        <p:spPr>
          <a:xfrm>
            <a:off x="1752480" y="3505320"/>
            <a:ext cx="7010640" cy="112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57091-F4EB-4784-859D-63B6E78CF1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523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lected economic parameter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different RES-E technologies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ind power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vestment cost: 900-1100 EUR/kW  (technology, construction p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erational cost: 20-25% of present value of total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urance, maintenance, re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ss and grid connection: can be significant part of 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ČR: total investment in range 1250-1350 EUR/k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tilization of installed capacity: given by conditions of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ČR: 1800-1900 hour/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fetime: 2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tovolta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900 EUR/k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erational cost: 1-1.5% (insurance, mainten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tilization of installed capacity: 950-1000 hours (geographical latitu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nimum price higher 4.5-6 x than for other 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7386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50992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37176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80044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69560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62908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91456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19572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91456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55276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62908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D5244-28AF-45FA-94EF-D86E8B29B6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523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lected economic parameter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different RES-E technologies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7386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50992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37176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80044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69560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62908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91456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19572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91456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55276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18592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43360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3352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wage and landfill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47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lization of existing infrastructure, typically hundreds of kW at ma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47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estment cost: 1750 EUR/k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47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ational cost: 4-5% of investment (without cost of g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47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ear utilization: typically very high 7000-8000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47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time: 15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gas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47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chnology for biogas production is significant part of investment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47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vestment cost: up to 5000 EU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47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eration cost: similar, fuel cost can be positive or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47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ear utilization: over 7000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47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fetime: 2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47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blem of utilization of originating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B698F-65D8-4E6F-B164-3E118754A9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523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lected economic parameter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different RES-E technologies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7386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50992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37176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80044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69560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62908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91456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19572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91456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55276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18592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43360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28600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055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fi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most no investment, utilization of existing infrastructure at coal fired power plants with fluid boi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erational cost: bioma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el cost: extra cost – difference of biomass price (2,5-3,5 EUR/GJ) and coal price (1,4 EUR/GJ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blems with long term contracts for bio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ve emission allow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clusive biomass bu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vestment cost: 1750 EUR/G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erational cost: 5-6% of 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fetime: 2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blem with utilization of originating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6716C-EF3D-4278-94A7-B61F04E5801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523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se example of calculation of economic effectiveness of RES-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7386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50992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37176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80044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69560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62908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91456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19572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91456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55276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18592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43360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28600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ypical wind power plant in CZ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onstration of CF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ed 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 of discount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 of different ways of fina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PV is positive but CF in first years is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tant prices versus nominal prices – demonstration of differences in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nsitivity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18756-FDEE-455B-989C-E7BD0E207D7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6836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9900"/>
                </a:solidFill>
                <a:latin typeface="Arial"/>
              </a:rPr>
              <a:t>Thank you for atten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F037A-1930-4974-917A-0E800FA6068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523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 investors decide to invest into projec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put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proje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ject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ject eff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viron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cial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conomic effectiveness is measured in money, non economic effects cannot be directly included in to 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vate investors orientate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conomic effect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619280" y="1268280"/>
            <a:ext cx="719280" cy="144720"/>
          </a:xfrm>
          <a:prstGeom prst="rightArrow">
            <a:avLst>
              <a:gd name="adj1" fmla="val 50000"/>
              <a:gd name="adj2" fmla="val 124254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995640" y="1268280"/>
            <a:ext cx="719280" cy="144720"/>
          </a:xfrm>
          <a:prstGeom prst="rightArrow">
            <a:avLst>
              <a:gd name="adj1" fmla="val 50000"/>
              <a:gd name="adj2" fmla="val 124254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CA09F-649A-4098-AC1E-8737932A8D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523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te of return as the main target of investor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23640" y="914040"/>
            <a:ext cx="8577000" cy="54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ximization of economic welfare as the main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le of scare resources – money for investments are also scarce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do investors invest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fi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e of return ? (real money 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tional investors compare initial investment with money generated by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is for decision are cash flows – results of project exis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project to choos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85FAD-DE16-4E35-8615-7E10A2D7A5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523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onomic effects generated by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23640" y="914400"/>
            <a:ext cx="8577000" cy="55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vision of economic effects generated by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points of view for economic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ystem (respects total economic effects, division of effects is not taken into account – no taxes, no financ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 of view of total capital (equity + debt capital) – taxes respected, no financ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 of view of investors (taxes and financing respec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repren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3723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nicip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56716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7386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74796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3419640" y="1412640"/>
            <a:ext cx="2016000" cy="1513080"/>
            <a:chOff x="3419640" y="1412640"/>
            <a:chExt cx="2016000" cy="1513080"/>
          </a:xfrm>
        </p:grpSpPr>
        <p:sp>
          <p:nvSpPr>
            <p:cNvPr id="542" name=""/>
            <p:cNvSpPr/>
            <p:nvPr/>
          </p:nvSpPr>
          <p:spPr>
            <a:xfrm>
              <a:off x="3564000" y="1413000"/>
              <a:ext cx="1582560" cy="151272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3419640" y="1412640"/>
              <a:ext cx="2016000" cy="1500120"/>
              <a:chOff x="3419640" y="1412640"/>
              <a:chExt cx="2016000" cy="1500120"/>
            </a:xfrm>
          </p:grpSpPr>
          <p:sp>
            <p:nvSpPr>
              <p:cNvPr id="544" name=""/>
              <p:cNvSpPr/>
              <p:nvPr/>
            </p:nvSpPr>
            <p:spPr>
              <a:xfrm flipH="1">
                <a:off x="3780000" y="2133360"/>
                <a:ext cx="576000" cy="50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356000" y="2133360"/>
                <a:ext cx="79056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 flipV="1">
                <a:off x="4282560" y="1412640"/>
                <a:ext cx="73080" cy="72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067280" y="2205000"/>
                <a:ext cx="93492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t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tax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427640" y="1701720"/>
                <a:ext cx="100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vesto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419640" y="1485720"/>
                <a:ext cx="129528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an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interes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EE240-5052-4BDF-BAA5-2B84C8078B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523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sion of non economic effects into “system” decision - externaliti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56716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7386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74796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80044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54348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4573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77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r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s on the environment (air, water, …, ecosystems, biodiversity, etc.; human health and quality of life, incl. social aspects) that are not included in cost of production and finally in prices – but these effects are borne by the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damages, negative influence to the human health, increased death rat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ocial and economic impacts – e.g. loss of recreation possibility, loss of possibility to see “last bear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ities can be either positive of 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approximation of non economic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01A89-0E27-462D-8E0E-E75209E2E0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523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sion of non economic effects into “system” decision – externalitie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effects of given common g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of direct utilization (e.g. walk in for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of opportunity to dec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of preservation (awareness of irreversi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of financial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Objective” – direct - methods – e.g. decrease of crop yields due to acid deposition, problem of damage function definition, problem of postponed effects, problem of cost – effect 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Indirect methods” (shadow prices) – e.g. decrease of real estate value due to worsen quality of air, differences in labour force price (extra charges in risk jobs), cost of transportation and/or (e.g. travel to national parks for recre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gent evaluation: based on questionnaires for evaluation of common goods value – e.g. value of decrease of biodiversity, protection endangered animals. etc  (very sub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ingness –to-pay: e.g. for improvement of quality 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ingness-to-accept 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56716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386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4004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A4FB7-2265-4501-9B43-72078216A5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sion of non economic effects into “system” decision – externalitie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cost for given fuel cycle differs due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or states, regions – local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of 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ty of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meteorological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of eco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and cost of health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ing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cost of electricity generation (cE/kW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56716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7386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4004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8"/>
          <a:srcRect l="2449" t="0" r="11017" b="0"/>
          <a:stretch/>
        </p:blipFill>
        <p:spPr>
          <a:xfrm>
            <a:off x="539640" y="4508640"/>
            <a:ext cx="8064720" cy="228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E6748-8568-4CBD-BCAF-2FA86C1EE8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c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sh flow calculation – direc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91520" cy="45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ject revenues (sold electricity, energy sav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an draw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erational expenses (material, fuel and energy, maintenance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or c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ú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id interest (cost of foreign capital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ome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x depre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,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able (+) deductible (-) items for income tax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nses for inventory purcha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bt re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iv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vestment paid from equity capi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z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ome tax r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ears of assessment peri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6859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7432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56716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7386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4004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1835280" y="1125360"/>
                <a:ext cx="51940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ú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Z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vl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l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92" name="" descr=""/>
          <p:cNvPicPr/>
          <p:nvPr/>
        </p:nvPicPr>
        <p:blipFill>
          <a:blip r:embed="rId6"/>
          <a:stretch/>
        </p:blipFill>
        <p:spPr>
          <a:xfrm>
            <a:off x="2050920" y="3645000"/>
            <a:ext cx="3529080" cy="47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E9CC3-14AA-490D-A476-4942D11FFD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0:54:08Z</dcterms:created>
  <dc:creator>XY</dc:creator>
  <dc:description/>
  <dc:language>en-US</dc:language>
  <cp:lastModifiedBy>XY</cp:lastModifiedBy>
  <dcterms:modified xsi:type="dcterms:W3CDTF">2006-07-13T07:18:08Z</dcterms:modified>
  <cp:revision>38</cp:revision>
  <dc:subject/>
  <dc:title>FACTORS INFLUENCING ECONOMICS OF SHORT ROTATION COPPICE</dc:title>
</cp:coreProperties>
</file>